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22E3-26CE-4B95-BAA6-31BD2CDC4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A50B-B57F-4A6A-82FF-535893282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5113-59CF-447D-B8E3-6D34A68C8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1965-51A3-4BCE-B42B-423B0AC9E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F592-92BE-41D5-B53F-A453A54C3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52AE-021F-47AC-BE56-20B9816CA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BC71-AE39-4CCC-AC1B-E08F60DD1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B56B-4E9E-4EE7-A973-B64757C4F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D013-0506-4DCE-8D6C-807835D97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C2D0-B884-4B62-BA56-878F6913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3E1D-30FD-44D5-B267-DA25F83FE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675F-8AFB-4FBD-A0F9-B3014DF21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8C137-5600-4993-8D96-21BB1544AB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3d_1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1042920" y="907920"/>
            <a:ext cx="7345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«</a:t>
            </a: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Экологический светофор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1042920" y="580536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Разработала учитель МБОУ СОШ №9 Савина Н.Б., октябрь 2011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1332000" y="4680000"/>
            <a:ext cx="717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Урок - игра для 5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155_1024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3d_1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6" descr="00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0000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0" y="20520"/>
            <a:ext cx="91440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Планета Земля и Луна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Центр галактики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pic>
        <p:nvPicPr>
          <p:cNvPr id="46" name="zdravstvuy_skazka.mp3" descr=""/>
          <p:cNvPicPr/>
          <p:nvPr/>
        </p:nvPicPr>
        <p:blipFill>
          <a:blip r:embed="rId2"/>
          <a:stretch/>
        </p:blipFill>
        <p:spPr>
          <a:xfrm>
            <a:off x="357120" y="714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ANd9GcTlgCCR_sYgV8Cng8KJyAYCEq00vdSyk0xpwvnrK1dbxHT_ON2Pqg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Солнечная система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ANd9GcTRRAWpz4lq2QRiKUEtkdBZJq4qTgvl57b5tU86neR8IVrKFLf10Q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8" descr="155_1024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16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556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2654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7" descr="14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6T20:20:10Z</dcterms:created>
  <dc:creator>1</dc:creator>
  <dc:description/>
  <dc:language>en-US</dc:language>
  <cp:lastModifiedBy>Щелкунова Н.А.</cp:lastModifiedBy>
  <dcterms:modified xsi:type="dcterms:W3CDTF">2011-10-24T08:08:27Z</dcterms:modified>
  <cp:revision>12</cp:revision>
  <dc:subject/>
  <dc:title>Слайд 1</dc:title>
</cp:coreProperties>
</file>